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D2B-8C32-4624-93B4-4737742F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305-00BF-43C0-8686-C052D62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E9F-7115-42B9-9AD2-DFAB89F2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525-A996-4EA4-9E7F-B3E2BB80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5AA-AFBB-41A4-9D97-0F72BBE9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02B-1D5E-448A-9F51-3F262B1F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A8A-687A-4B74-8639-3FB56450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435-E4C4-4902-A529-8DF344F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7E1-CF29-417F-A136-B0BD994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1F7-F9C7-419D-B7B2-B2ADE4F6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33A-7353-4101-A2D3-ABC908BA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6EE-2854-42AF-B350-B0BFA872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589C-D5A2-40F1-B621-E2A006599E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E86E-A18E-4A87-9B01-6F9356ED3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17220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129528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ig_E_with_ridge_in_red" descr=""/>
          <p:cNvPicPr/>
          <p:nvPr/>
        </p:nvPicPr>
        <p:blipFill>
          <a:blip r:embed="rId2"/>
          <a:stretch/>
        </p:blipFill>
        <p:spPr>
          <a:xfrm>
            <a:off x="228600" y="0"/>
            <a:ext cx="501480" cy="868320"/>
          </a:xfrm>
          <a:prstGeom prst="rect">
            <a:avLst/>
          </a:prstGeom>
          <a:ln w="0">
            <a:noFill/>
          </a:ln>
        </p:spPr>
      </p:pic>
      <p:pic>
        <p:nvPicPr>
          <p:cNvPr id="8" name="dual_watch_small_collage_with_2000" descr=""/>
          <p:cNvPicPr/>
          <p:nvPr/>
        </p:nvPicPr>
        <p:blipFill>
          <a:blip r:embed="rId3"/>
          <a:stretch/>
        </p:blipFill>
        <p:spPr>
          <a:xfrm>
            <a:off x="7772400" y="5715000"/>
            <a:ext cx="10969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720"/>
            <a:ext cx="9142560" cy="6857280"/>
            <a:chOff x="0" y="-720"/>
            <a:chExt cx="9142560" cy="6857280"/>
          </a:xfrm>
        </p:grpSpPr>
        <p:sp>
          <p:nvSpPr>
            <p:cNvPr id="46" name=""/>
            <p:cNvSpPr/>
            <p:nvPr/>
          </p:nvSpPr>
          <p:spPr>
            <a:xfrm>
              <a:off x="0" y="6719760"/>
              <a:ext cx="9142560" cy="136800"/>
            </a:xfrm>
            <a:prstGeom prst="rect">
              <a:avLst/>
            </a:prstGeom>
            <a:solidFill>
              <a:srgbClr val="08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5000" y="133200"/>
              <a:ext cx="8874000" cy="95400"/>
            </a:xfrm>
            <a:prstGeom prst="rect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 rot="16200000">
              <a:off x="5647680" y="3361320"/>
              <a:ext cx="6854760" cy="129960"/>
            </a:xfrm>
            <a:custGeom>
              <a:avLst/>
              <a:gdLst>
                <a:gd name="textAreaLeft" fmla="*/ 628920 w 6854760"/>
                <a:gd name="textAreaRight" fmla="*/ 6225840 w 6854760"/>
                <a:gd name="textAreaTop" fmla="*/ 11880 h 129960"/>
                <a:gd name="textAreaBottom" fmla="*/ 11808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182" y="21600"/>
                  </a:lnTo>
                  <a:lnTo>
                    <a:pt x="418" y="21600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5400000">
              <a:off x="-3111480" y="3381840"/>
              <a:ext cx="6588360" cy="88920"/>
            </a:xfrm>
            <a:custGeom>
              <a:avLst/>
              <a:gdLst>
                <a:gd name="textAreaLeft" fmla="*/ 584280 w 6588360"/>
                <a:gd name="textAreaRight" fmla="*/ 6004080 w 6588360"/>
                <a:gd name="textAreaTop" fmla="*/ 7560 h 88920"/>
                <a:gd name="textAreaBottom" fmla="*/ 813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01" y="21600"/>
                  </a:lnTo>
                  <a:lnTo>
                    <a:pt x="299" y="21600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9142560" cy="133200"/>
            </a:xfrm>
            <a:prstGeom prst="rect">
              <a:avLst/>
            </a:pr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5400000">
              <a:off x="-3359160" y="3358080"/>
              <a:ext cx="6854760" cy="136440"/>
            </a:xfrm>
            <a:custGeom>
              <a:avLst/>
              <a:gdLst>
                <a:gd name="textAreaLeft" fmla="*/ 628920 w 6854760"/>
                <a:gd name="textAreaRight" fmla="*/ 6225840 w 6854760"/>
                <a:gd name="textAreaTop" fmla="*/ 12240 h 136440"/>
                <a:gd name="textAreaBottom" fmla="*/ 1242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182" y="21600"/>
                  </a:lnTo>
                  <a:lnTo>
                    <a:pt x="418" y="21600"/>
                  </a:lnTo>
                  <a:close/>
                </a:path>
              </a:pathLst>
            </a:custGeom>
            <a:solidFill>
              <a:srgbClr val="08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440" y="6627960"/>
              <a:ext cx="8874360" cy="918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 rot="16200000">
              <a:off x="5667120" y="3380040"/>
              <a:ext cx="6588360" cy="92160"/>
            </a:xfrm>
            <a:custGeom>
              <a:avLst/>
              <a:gdLst>
                <a:gd name="textAreaLeft" fmla="*/ 584280 w 6588360"/>
                <a:gd name="textAreaRight" fmla="*/ 6004080 w 6588360"/>
                <a:gd name="textAreaTop" fmla="*/ 7920 h 92160"/>
                <a:gd name="textAreaBottom" fmla="*/ 8424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01" y="21600"/>
                  </a:lnTo>
                  <a:lnTo>
                    <a:pt x="299" y="2160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dual_watch_collage_with_2000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548784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143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soft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048120"/>
            <a:ext cx="43434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ar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255-8476-4CCE-B203-AC1D714679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CB41E-8304-433D-9355-4282DF24C7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cheduling is laying out of actual jobs in the order in which the jobs must be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job B cannot be started until job A is completed, it is said that B depends on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hedule must take these predecessor-successor relationships into account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 and material needs of each jo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6360" y="4573440"/>
            <a:ext cx="8454960" cy="1063800"/>
            <a:chOff x="306360" y="4573440"/>
            <a:chExt cx="8454960" cy="1063800"/>
          </a:xfrm>
        </p:grpSpPr>
        <p:sp>
          <p:nvSpPr>
            <p:cNvPr id="84" name=""/>
            <p:cNvSpPr/>
            <p:nvPr/>
          </p:nvSpPr>
          <p:spPr>
            <a:xfrm>
              <a:off x="7545240" y="4573440"/>
              <a:ext cx="1216080" cy="606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7440" y="5030640"/>
              <a:ext cx="1216080" cy="606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4840" y="5030640"/>
              <a:ext cx="1216080" cy="606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6360" y="5030640"/>
              <a:ext cx="1444680" cy="606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5334120"/>
              <a:ext cx="534960" cy="1440"/>
            </a:xfrm>
            <a:custGeom>
              <a:avLst/>
              <a:gdLst/>
              <a:ahLst/>
              <a:rect l="l" t="t" r="r" b="b"/>
              <a:pathLst>
                <a:path w="337" h="1">
                  <a:moveTo>
                    <a:pt x="0" y="0"/>
                  </a:moveTo>
                  <a:lnTo>
                    <a:pt x="3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05320" y="5334120"/>
              <a:ext cx="839520" cy="1440"/>
            </a:xfrm>
            <a:custGeom>
              <a:avLst/>
              <a:gdLst/>
              <a:ahLst/>
              <a:rect l="l" t="t" r="r" b="b"/>
              <a:pathLst>
                <a:path w="529" h="1">
                  <a:moveTo>
                    <a:pt x="0" y="0"/>
                  </a:move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05320" y="4876920"/>
              <a:ext cx="4039920" cy="458640"/>
            </a:xfrm>
            <a:custGeom>
              <a:avLst/>
              <a:gdLst/>
              <a:ahLst/>
              <a:rect l="l" t="t" r="r" b="b"/>
              <a:pathLst>
                <a:path w="2545" h="289">
                  <a:moveTo>
                    <a:pt x="0" y="288"/>
                  </a:moveTo>
                  <a:lnTo>
                    <a:pt x="444" y="288"/>
                  </a:lnTo>
                  <a:lnTo>
                    <a:pt x="444" y="0"/>
                  </a:lnTo>
                  <a:lnTo>
                    <a:pt x="254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35600" y="5711760"/>
            <a:ext cx="2901600" cy="463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and C depend 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5B8-D35B-4017-999E-9634BFCF46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CB28B-B733-420E-8800-4F987E8FFE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ntrolling is the fundamental management function. The essence of control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e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difference between scheduled performance and actua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underlying causes of deviation from th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or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difference by adding to or subtracting from resources assigned to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E8C-6506-43D4-B56E-B477D86115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E3345-621D-48A2-BE01-4D57687B7C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When all predecessor-successor constraints are satisfied, the sequence of tasks looks like a mesh 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40" y="2897280"/>
            <a:ext cx="9141120" cy="2968560"/>
            <a:chOff x="1440" y="2897280"/>
            <a:chExt cx="9141120" cy="2968560"/>
          </a:xfrm>
        </p:grpSpPr>
        <p:sp>
          <p:nvSpPr>
            <p:cNvPr id="97" name=""/>
            <p:cNvSpPr/>
            <p:nvPr/>
          </p:nvSpPr>
          <p:spPr>
            <a:xfrm>
              <a:off x="1982880" y="4344840"/>
              <a:ext cx="1216080" cy="606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0" y="4344840"/>
              <a:ext cx="1444680" cy="606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4648320"/>
              <a:ext cx="534960" cy="1440"/>
            </a:xfrm>
            <a:custGeom>
              <a:avLst/>
              <a:gdLst/>
              <a:ahLst/>
              <a:rect l="l" t="t" r="r" b="b"/>
              <a:pathLst>
                <a:path w="337" h="1">
                  <a:moveTo>
                    <a:pt x="0" y="0"/>
                  </a:moveTo>
                  <a:lnTo>
                    <a:pt x="3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83080" y="3201840"/>
              <a:ext cx="1216080" cy="606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59040" y="5259240"/>
              <a:ext cx="1216080" cy="606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6440" y="2897280"/>
              <a:ext cx="1216080" cy="6062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7840" y="4421160"/>
              <a:ext cx="1216080" cy="606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7880" y="4192560"/>
              <a:ext cx="1444680" cy="606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3505320"/>
              <a:ext cx="382680" cy="1144440"/>
            </a:xfrm>
            <a:custGeom>
              <a:avLst/>
              <a:gdLst/>
              <a:ahLst/>
              <a:rect l="l" t="t" r="r" b="b"/>
              <a:pathLst>
                <a:path w="241" h="721">
                  <a:moveTo>
                    <a:pt x="0" y="720"/>
                  </a:moveTo>
                  <a:lnTo>
                    <a:pt x="120" y="720"/>
                  </a:lnTo>
                  <a:lnTo>
                    <a:pt x="120" y="0"/>
                  </a:lnTo>
                  <a:lnTo>
                    <a:pt x="2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0400" y="4648320"/>
              <a:ext cx="458640" cy="915840"/>
            </a:xfrm>
            <a:custGeom>
              <a:avLst/>
              <a:gdLst/>
              <a:ahLst/>
              <a:rect l="l" t="t" r="r" b="b"/>
              <a:pathLst>
                <a:path w="289" h="577">
                  <a:moveTo>
                    <a:pt x="0" y="0"/>
                  </a:moveTo>
                  <a:lnTo>
                    <a:pt x="128" y="0"/>
                  </a:lnTo>
                  <a:lnTo>
                    <a:pt x="128" y="576"/>
                  </a:lnTo>
                  <a:lnTo>
                    <a:pt x="288" y="5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200400"/>
              <a:ext cx="915840" cy="306360"/>
            </a:xfrm>
            <a:custGeom>
              <a:avLst/>
              <a:gdLst/>
              <a:ahLst/>
              <a:rect l="l" t="t" r="r" b="b"/>
              <a:pathLst>
                <a:path w="577" h="193">
                  <a:moveTo>
                    <a:pt x="0" y="192"/>
                  </a:moveTo>
                  <a:lnTo>
                    <a:pt x="288" y="192"/>
                  </a:lnTo>
                  <a:lnTo>
                    <a:pt x="288" y="0"/>
                  </a:lnTo>
                  <a:lnTo>
                    <a:pt x="5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4724280"/>
              <a:ext cx="610920" cy="839880"/>
            </a:xfrm>
            <a:custGeom>
              <a:avLst/>
              <a:gdLst/>
              <a:ahLst/>
              <a:rect l="l" t="t" r="r" b="b"/>
              <a:pathLst>
                <a:path w="385" h="529">
                  <a:moveTo>
                    <a:pt x="0" y="528"/>
                  </a:moveTo>
                  <a:lnTo>
                    <a:pt x="192" y="528"/>
                  </a:lnTo>
                  <a:lnTo>
                    <a:pt x="192" y="0"/>
                  </a:lnTo>
                  <a:lnTo>
                    <a:pt x="3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3200400"/>
              <a:ext cx="763560" cy="1297080"/>
            </a:xfrm>
            <a:custGeom>
              <a:avLst/>
              <a:gdLst/>
              <a:ahLst/>
              <a:rect l="l" t="t" r="r" b="b"/>
              <a:pathLst>
                <a:path w="481" h="817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480" y="8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86400" y="3200400"/>
              <a:ext cx="1449360" cy="1525680"/>
            </a:xfrm>
            <a:custGeom>
              <a:avLst/>
              <a:gdLst/>
              <a:ahLst/>
              <a:rect l="l" t="t" r="r" b="b"/>
              <a:pathLst>
                <a:path w="913" h="961">
                  <a:moveTo>
                    <a:pt x="768" y="960"/>
                  </a:moveTo>
                  <a:lnTo>
                    <a:pt x="912" y="960"/>
                  </a:lnTo>
                  <a:lnTo>
                    <a:pt x="912" y="480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F0B-AE11-4783-AE14-C59323C8F7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38427-2215-4AEF-842C-BCD05F9386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ritical Pa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s through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&gt;B&gt;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&gt;C&gt;D&gt;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time it takes to go from start to finish is the sum of the durations of the jobs in the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ritical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ongest path in the network connecting Start to Fi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711-E22C-4A8C-87B2-BB243C9CFA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99774-69DA-4B47-80F0-9D27E9A9CC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s for Microsoft® Project™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icrosoft® Project™ implements program management techniques that originated in the 1950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evaluation and review technique (PERT),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path method (C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management of project planning, scheduling an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F6F-454B-4E8E-8193-94D3C6C301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5DAAE-CB92-4903-91BC-28BA370E7C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ing Up Project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roject™ helps to do the 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the project into independent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order of precedence of the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sum of the durations of sequences of jobs leading from Start to Fi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3FC-BBD0-4EC5-AEE8-9308FAF49C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CE541-67E6-4CD1-B947-B0D9120E15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ing Job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ach job has attributes that define its resource demands, materials, costs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number, name, materials, resources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Of particular interest are time-related job attribut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ecessors (things on which the job depen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ors (things that depend on 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EFD-3D88-4FDA-AD70-F1C2B35ED9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0C376-93FC-431C-ADA1-3C7D71BE4C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19520" y="2362320"/>
            <a:ext cx="3504960" cy="1676160"/>
          </a:xfrm>
          <a:prstGeom prst="rect">
            <a:avLst/>
          </a:prstGeom>
          <a:solidFill>
            <a:srgbClr val="ffff99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971800"/>
            <a:ext cx="175248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971800"/>
            <a:ext cx="175248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34290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ing Job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2362320"/>
            <a:ext cx="35049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3505320"/>
            <a:ext cx="17524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1/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505320"/>
            <a:ext cx="17524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3/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 rot="5400000">
            <a:off x="4228920" y="2780280"/>
            <a:ext cx="685800" cy="3200400"/>
          </a:xfrm>
          <a:custGeom>
            <a:avLst/>
            <a:gdLst>
              <a:gd name="textAreaLeft" fmla="*/ 438120 w 685800"/>
              <a:gd name="textAreaRight" fmla="*/ 686160 w 6858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22360" y="2075760"/>
            <a:ext cx="1366560" cy="496440"/>
          </a:xfrm>
          <a:prstGeom prst="wedgeRoundRectCallout">
            <a:avLst>
              <a:gd name="adj1" fmla="val -86393"/>
              <a:gd name="adj2" fmla="val 185578"/>
              <a:gd name="adj3" fmla="val 16667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4114800"/>
            <a:ext cx="990720" cy="685800"/>
          </a:xfrm>
          <a:prstGeom prst="wedgeRoundRectCallout">
            <a:avLst>
              <a:gd name="adj1" fmla="val -122754"/>
              <a:gd name="adj2" fmla="val -87731"/>
              <a:gd name="adj3" fmla="val 16667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830960"/>
            <a:ext cx="1274760" cy="891000"/>
          </a:xfrm>
          <a:prstGeom prst="wedgeRoundRectCallout">
            <a:avLst>
              <a:gd name="adj1" fmla="val 130064"/>
              <a:gd name="adj2" fmla="val 112560"/>
              <a:gd name="adj3" fmla="val 16667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191120"/>
            <a:ext cx="990720" cy="685800"/>
          </a:xfrm>
          <a:prstGeom prst="wedgeRoundRectCallout">
            <a:avLst>
              <a:gd name="adj1" fmla="val 128046"/>
              <a:gd name="adj2" fmla="val -107638"/>
              <a:gd name="adj3" fmla="val 16667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42900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004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29040" y="32418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4800600"/>
            <a:ext cx="3504960" cy="129528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7360" y="1371600"/>
            <a:ext cx="37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 Border = non-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d Border =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1B5-1C57-42ED-B4A2-B465FA466A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182FF-A631-4462-8B30-96DF6EA26B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esh Nets of Job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cked by a 2-Digit 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When the sequence of jobs places a task such that it straddles the 1999/2000 line, the finish of a job could be interpreted as if it were in 19xx . Calculated duration of D and E might be less tha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39880" y="3963960"/>
            <a:ext cx="7921080" cy="1673280"/>
            <a:chOff x="839880" y="3963960"/>
            <a:chExt cx="7921080" cy="1673280"/>
          </a:xfrm>
        </p:grpSpPr>
        <p:sp>
          <p:nvSpPr>
            <p:cNvPr id="140" name=""/>
            <p:cNvSpPr/>
            <p:nvPr/>
          </p:nvSpPr>
          <p:spPr>
            <a:xfrm>
              <a:off x="2557440" y="4780080"/>
              <a:ext cx="1051920" cy="341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880" y="4780080"/>
              <a:ext cx="1250640" cy="34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92320" y="4951440"/>
              <a:ext cx="464760" cy="1440"/>
            </a:xfrm>
            <a:custGeom>
              <a:avLst/>
              <a:gdLst/>
              <a:ahLst/>
              <a:rect l="l" t="t" r="r" b="b"/>
              <a:pathLst>
                <a:path w="293" h="1">
                  <a:moveTo>
                    <a:pt x="0" y="0"/>
                  </a:moveTo>
                  <a:lnTo>
                    <a:pt x="2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43080" y="4135320"/>
              <a:ext cx="1053720" cy="341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0040" y="5295960"/>
              <a:ext cx="1051920" cy="341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2760" y="3963960"/>
              <a:ext cx="1053720" cy="341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94400" y="4824360"/>
              <a:ext cx="1053720" cy="3398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10320" y="4694400"/>
              <a:ext cx="1250640" cy="34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1520" y="4307040"/>
              <a:ext cx="331200" cy="645840"/>
            </a:xfrm>
            <a:custGeom>
              <a:avLst/>
              <a:gdLst/>
              <a:ahLst/>
              <a:rect l="l" t="t" r="r" b="b"/>
              <a:pathLst>
                <a:path w="209" h="407">
                  <a:moveTo>
                    <a:pt x="0" y="406"/>
                  </a:moveTo>
                  <a:lnTo>
                    <a:pt x="104" y="406"/>
                  </a:lnTo>
                  <a:lnTo>
                    <a:pt x="104" y="0"/>
                  </a:lnTo>
                  <a:lnTo>
                    <a:pt x="20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1520" y="4951440"/>
              <a:ext cx="398160" cy="517320"/>
            </a:xfrm>
            <a:custGeom>
              <a:avLst/>
              <a:gdLst/>
              <a:ahLst/>
              <a:rect l="l" t="t" r="r" b="b"/>
              <a:pathLst>
                <a:path w="251" h="326">
                  <a:moveTo>
                    <a:pt x="0" y="0"/>
                  </a:moveTo>
                  <a:lnTo>
                    <a:pt x="111" y="0"/>
                  </a:lnTo>
                  <a:lnTo>
                    <a:pt x="111" y="325"/>
                  </a:lnTo>
                  <a:lnTo>
                    <a:pt x="250" y="3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98960" y="4133880"/>
              <a:ext cx="793440" cy="174600"/>
            </a:xfrm>
            <a:custGeom>
              <a:avLst/>
              <a:gdLst/>
              <a:ahLst/>
              <a:rect l="l" t="t" r="r" b="b"/>
              <a:pathLst>
                <a:path w="500" h="110">
                  <a:moveTo>
                    <a:pt x="0" y="109"/>
                  </a:moveTo>
                  <a:lnTo>
                    <a:pt x="249" y="109"/>
                  </a:lnTo>
                  <a:lnTo>
                    <a:pt x="249" y="0"/>
                  </a:lnTo>
                  <a:lnTo>
                    <a:pt x="49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4120" y="4994280"/>
              <a:ext cx="529920" cy="474480"/>
            </a:xfrm>
            <a:custGeom>
              <a:avLst/>
              <a:gdLst/>
              <a:ahLst/>
              <a:rect l="l" t="t" r="r" b="b"/>
              <a:pathLst>
                <a:path w="334" h="299">
                  <a:moveTo>
                    <a:pt x="0" y="298"/>
                  </a:moveTo>
                  <a:lnTo>
                    <a:pt x="166" y="298"/>
                  </a:lnTo>
                  <a:lnTo>
                    <a:pt x="166" y="0"/>
                  </a:lnTo>
                  <a:lnTo>
                    <a:pt x="33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8280" y="4133880"/>
              <a:ext cx="661680" cy="733320"/>
            </a:xfrm>
            <a:custGeom>
              <a:avLst/>
              <a:gdLst/>
              <a:ahLst/>
              <a:rect l="l" t="t" r="r" b="b"/>
              <a:pathLst>
                <a:path w="417" h="462">
                  <a:moveTo>
                    <a:pt x="0" y="0"/>
                  </a:moveTo>
                  <a:lnTo>
                    <a:pt x="208" y="0"/>
                  </a:lnTo>
                  <a:lnTo>
                    <a:pt x="208" y="461"/>
                  </a:lnTo>
                  <a:lnTo>
                    <a:pt x="416" y="4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92600" y="4133880"/>
              <a:ext cx="1257120" cy="861840"/>
            </a:xfrm>
            <a:custGeom>
              <a:avLst/>
              <a:gdLst/>
              <a:ahLst/>
              <a:rect l="l" t="t" r="r" b="b"/>
              <a:pathLst>
                <a:path w="792" h="543">
                  <a:moveTo>
                    <a:pt x="666" y="542"/>
                  </a:moveTo>
                  <a:lnTo>
                    <a:pt x="791" y="542"/>
                  </a:lnTo>
                  <a:lnTo>
                    <a:pt x="791" y="271"/>
                  </a:lnTo>
                  <a:lnTo>
                    <a:pt x="0" y="271"/>
                  </a:lnTo>
                  <a:lnTo>
                    <a:pt x="0" y="0"/>
                  </a:lnTo>
                  <a:lnTo>
                    <a:pt x="1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181120" y="3429000"/>
            <a:ext cx="163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  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3354480"/>
            <a:ext cx="0" cy="2360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8CC-F0BB-4E0D-923A-19685B2545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6CE27-DB6F-41E3-BD32-C6AC47D12A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S Project™ Helps You Avoi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 Year 2000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Dates and schedules are the heart of Project™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s and times are stored as minutes elapsed from a reference date (01/01/198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year are not stored separately, only as elapsed minutes from the reference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™ excludes dates before 01/01/1984  and after 12/31/20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 cannot save a date in the wrong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D22-D704-4276-A321-F0D3F0C9F3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42C94-D5E0-4188-BB96-D0ABE230E0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soft Project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for the Next Millen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company name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gleRidge Technologie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3-354-15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soft® and Project™ are registered marks of the Microsoft Corpo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6A4-4C91-4AA1-A6A7-8803A3487F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A452F-7890-4C34-9F80-CEDDF8E9FF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™ will only save dates from 1/1/1984 to 12/31/204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ood news: You cannot save a date in the wrong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You can, however, get error messages when trying to use dates programmatically or otherwise that do not fit in the above dat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0DF-6ABC-443F-A178-0740AF3631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5D7F0-4AD2-4C8D-A2E9-0BF6BBE79F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™ Helps Protect You from Problems with Dri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he core application of Project™ recognizes only dates within the 1984-2049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driver application that incorrectly assigns a 2-digit date to the wrong century will have that date rejected by the built-in 1984-2049 tim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EE8-01C8-4CEA-B957-990F4592F4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55413-F4EC-4130-B784-54F904177A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ars 2049+ are Special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™ does not support 2049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ing operations that spread work over time to stay within resource ceilings could spread a task into 20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™ will set the duration to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isual Basic® for Applications (VB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ca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method will return erroneous dates in 20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54C-C67B-4F4E-8233-3B892BDC7B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11185-2E1B-4ACA-96E7-EBF6DFACC6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Case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 case sets up potential Year 2000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test case dates are correct, you have no Project-specific Year 2000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f the test dates are incorrect and not the result of holidays (Christmas or New Year’s 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all a programmer, you have a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D53-BA42-457B-9094-D074B12F2D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8B7E3-5C3E-4BF0-8497-1B00EA5FFB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. Inserting the Test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antt Chart M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14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/3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7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/4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/1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the time bar to start at week Nov 28 ‘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313-AA16-4FB1-AFFE-E77129EFB3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E86A8-EFC3-412E-BAFC-82E935836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et the Project Start 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| Project Inf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menu bar.  (This option may be differently placed in different versions of Projec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the start dat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/1/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ECA-89C5-4683-8CD4-0F71125A40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C6F7A-6416-43F3-A023-BD1D59C8F1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et Date Format to 4-Digit 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| Options | View | Date Form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e menu b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1/199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whatever example shows a 4-digit y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EAB-6D46-4065-8389-ADC7CA58DA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3F575-7750-47BC-974B-54936D4F44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een Capture -- 4-Digit 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setformat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C5C-4F94-426A-B08D-4F6F58925B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26317-AEF9-47EA-9ED9-F4E3F84C21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Link Ta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Gantt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Ctrl key down and select B, then release the Ctrl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Link on Tool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Ctrl key down and select E, then release the Ctrl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Link on Tool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5B1-B2B4-44EE-9610-8C3CFAE105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16042-F574-4B21-AEEB-6DEE910A37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Task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Gantt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Ctrl key down and select C, then release the Ctrl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Link on Tool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Ctrl key down and select D, then release the Ctrl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Link on Tool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475-B5C8-4B6B-A422-DAD78D1380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E3550-B536-4D2B-9C51-C3E086BF4F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Year 2000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bout your BIOS and the Yea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roject management dat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how Project™ handles time-rela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how to protect your applications so they are Year 2000-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230040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n this short course, you wil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30B-8510-4678-BA2A-25E053C394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FB39A-A1C6-4380-85B1-947D9F8B9E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Tasks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Gantt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Control and select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Link on Tool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ntt Chart should look like the following screen capture (you may have to move the Gantt-chart window or change scale to view the bar-ch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4F0-DD64-4A74-BE51-70FE1052C3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A9F87-332A-4C9F-A666-D6CE4A83CA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een Capture -- Lin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ganttiew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3BC-95F0-40BB-A16B-0C62031192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F0449-1AEA-4C54-B577-6704F98A0E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View PERT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he information on the following screen ca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have to use a 2-digit year format in order for the Pert chart dates to have room to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ask D show 12/30/1999 and 1/4/2000 in the date block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ask E show 1/5/2000 and 1/18/2000 in the date bloc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ither is not correct, and you are sure your data entry is correct, you should contact your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C0A-D298-4D86-820F-A81BEDC525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C0479-5B86-44DC-9064-BB9312FAF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een Capture -- PERT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ertview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65240" y="4384800"/>
            <a:ext cx="46641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red path is the critical sequence that determines the length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3C6-70B3-4284-8E92-79E80DB96B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FD678-A0D7-44EC-8CF9-644D6108F6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Case Overview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 case sets up potential year 2000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test case dates are correct, you have no Year 2000 problem with MS Project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f the test dates are incorrect and not the result of holidays (Christmas or New Year’s 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all a programmer, you have a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53F-85BD-4787-AAF6-C5FF60E1A7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D3583-5038-4F75-AB3B-AA116DFF6D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Year 2000 Test Ca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 the Test Proced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ACKUP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olate Project™ from the production and network enviro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defined holidays to work-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test case…dates will agree with PERT screen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t start of test case to 12/01/19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date will be rej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t start of test case to 12/01/20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sh dates(s) will be rej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3C8-FB73-488B-B595-BE023395548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811BC-07B5-42B1-9FFF-49BFE4A0CE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ck T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solate MS Project™ from the production and network environment. Consult  your network engineer a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you start: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BACK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Year 2000 Team will check your BIOS, then put a sticker near the asset tag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system default date formats to use 4-digit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Project™ default to 4-digit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5B8-B7FA-4520-BFA1-AE9D8FBE89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26E3E-D2D4-41B5-9DF5-A948C5A75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Quick Tip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 caution when pasting or importing dates from another application, or bringing in values via Visual Basic for Applications; in some cases Project™ could misinterpret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4-digit year formats if poss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using 2-digit year formats in all your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7B6-C536-417E-9B39-D4781126DA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F7CC9-9F5E-4777-B340-61C1A9B0CD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More Quick Tip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change Visual Basic for Applications (VBA) code if  you don’t feel comfortable with programming—have a programmer check your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urther assi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 programmer, o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Year 2000 Hotline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800) xxx-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656-A7FA-4398-AB44-21781338EA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12F15-9883-4BDB-A58A-74F93BFD0C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the Year 2000 is a Con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5238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 program that uses dates is susceptible to the “Year 2000 problem: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isinterpretation of the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s use a 2-digit representation of the year, as (MM/DD/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gram in effect tries to guess whether a date is in the 1900’s (19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the 2000’s (20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2-digit form cannot be used to represent dates without ambig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62A-968C-44E5-B3BB-87236D049E6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15BB3-30CF-4F44-A9A7-D5A5FBE780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You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95280"/>
            <a:ext cx="8153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our Year 2000 tasks you need to perfor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 matter what application you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ACKUP YOUR FILE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late your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production and network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ay need to check with your network engine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your system default date forma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hort and long) to use 4-digit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S t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by your Year 2000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ticker near the asset tag on your P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owing your BIOS is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questions please contact your LAN Administ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 Year 2000 Hotline 1-800-xxx-xxx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602-10BD-4FA4-86CD-7913F84B023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68267-6D17-4D96-95DF-BEC14F96D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2952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r LAN Administrator will answer 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IOS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heck with your network engineer before performing this t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ou may need to first remove your computer from your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 MS-DOS prompt, en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 12-31-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 11:58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until the clock rolls over, then en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should correctly show as being in the year 2000; if not, you may need to up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your system date after th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 Your BIOS before Year 2000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ollover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4267080"/>
            <a:ext cx="152640" cy="228600"/>
          </a:xfrm>
          <a:custGeom>
            <a:avLst/>
            <a:gdLst>
              <a:gd name="textAreaLeft" fmla="*/ 20160 w 152640"/>
              <a:gd name="textAreaRight" fmla="*/ 132480 w 15264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3124080"/>
            <a:ext cx="152640" cy="228600"/>
          </a:xfrm>
          <a:custGeom>
            <a:avLst/>
            <a:gdLst>
              <a:gd name="textAreaLeft" fmla="*/ 20160 w 152640"/>
              <a:gd name="textAreaRight" fmla="*/ 132480 w 15264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5053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DB6-F8E5-4084-B59D-19D63ED5559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4ED40-03BB-4C2B-AFFC-51CC047438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3716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MS-DOS prompt, e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 12-31-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 11:58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 down your computer.  Wait 4 minutes, then turn on your computer, go to an MS-DOS prompt, and e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should correctly show as being in the year 2000; if not, you may need to up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your system date after th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 Your BIOS before Year 2000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wer Dow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209680"/>
            <a:ext cx="152640" cy="228600"/>
          </a:xfrm>
          <a:custGeom>
            <a:avLst/>
            <a:gdLst>
              <a:gd name="textAreaLeft" fmla="*/ 20160 w 152640"/>
              <a:gd name="textAreaRight" fmla="*/ 132480 w 15264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590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114800"/>
            <a:ext cx="152640" cy="228600"/>
          </a:xfrm>
          <a:custGeom>
            <a:avLst/>
            <a:gdLst>
              <a:gd name="textAreaLeft" fmla="*/ 20160 w 152640"/>
              <a:gd name="textAreaRight" fmla="*/ 132480 w 15264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4F9-BF90-4C93-B045-1A5FD1DDE15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60FBC-5C37-4D3B-B3F2-512549184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 Project™ - a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roject™ supports the project manager by aiding with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8D8-AB7B-4B85-9DC4-479053F97A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2ACB9-5F55-4782-8505-65CAFB2475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he planning phase of any venture involves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ing of all the jobs that must be performed to complete the ven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tion of gross requiremen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job estimate how long it will take and how much it will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9 EagleRidge Technologie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895-1F72-4C81-A306-75811BBCA4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03333-9231-4073-9B11-A1FE621E34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0T17:11:20Z</dcterms:created>
  <dc:creator>William H. McCumber, Jr.</dc:creator>
  <dc:description/>
  <dc:language>en-US</dc:language>
  <cp:lastModifiedBy>Crystal (Bliss) Sloan</cp:lastModifiedBy>
  <dcterms:modified xsi:type="dcterms:W3CDTF">1999-11-27T04:29:20Z</dcterms:modified>
  <cp:revision>41</cp:revision>
  <dc:subject/>
  <dc:title>Microsoft Project</dc:title>
</cp:coreProperties>
</file>